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91A-913A-40E9-AFEB-5D980BA8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9C4-0F3C-4880-83D3-02A36534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171-571E-43EA-A82E-A49495E5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A3B-C3E7-4666-8D72-84983CFB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6A0-3EB8-4740-B3B6-E8DA5736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DCC-327B-4534-9292-3EB70AAE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605-BB79-4184-9D08-182E0BC2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5E1-21B4-461F-BCB4-A7266046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082-E002-4234-9361-B4C402F7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3B0-E139-42BE-9622-3A600E84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BBD-08DF-435B-B6C0-2403E3C0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489-C7EF-4A5B-B508-91EB4A8E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E41C-98B3-4508-97B2-2AB6CDEBD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@lexikos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w.w3.org/topic/HCLS/ClinicalObservationsInteroperability?action=AttachFile&amp;do=get&amp;target=Eligibility+Screening_FINAL_10-8-2007.doc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rchitectu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Enabling Standard Patient-Model Searches in Disparate EMR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 Co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Agency Prototyp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b UI &amp; QA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3160" y="537048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S resources are available; be nice to automate downloa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 needs web forms built for each COI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kos can supply other 3 services - now in active beta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sues suggest that any new UI be deployed nea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ng at same ISP is $29/mo - allows a POC sca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UI could be run under any domain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need to be run at some healthcare provid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bined Demo Proces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suggests (+)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server maps (+) into Patient-I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results-list, the UI th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 pairs: Patient IDs and (-) pred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Rwrapper picks the “final” candid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Get EM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are easily located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missing need: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b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R mode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offers EMRwrappers their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reference web app addressing Rachel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ase 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ou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CLS Tas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uggests can deploy soon and at modest costs IF key needs can 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vise a web service architecture (first cut is below), then seek a set of collaborators willing and able to supply its required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by existence.  Will you or your organization contribute ideas, energy, time, information or money to make this prototype a useable re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Design Goal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proto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by using UMLS terms &amp;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via standard DCM patient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data may span EM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rrative &amp; structured EM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general interoperability metho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Desig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via a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te-and-Tes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andidates first via high recall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precision by adding Boolea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dds constraints only if the ROI justifi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e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; query only to set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efforts get invested into future tim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queries helpful to others building new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: must index EMR data-change summ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eb-based UI, accessible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Usag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group search agents easy to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user training via web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ing helps on clinical trials a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work to add other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learns EMR mappings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-Visibl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interne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xt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bulk public medical ontologies and lexicons of quasi-standard terms - almost always cite bridg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corpora of protocols, patient summaries, extension lexicons, mapping forms, and match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nd all these resour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teractively learn the latter sorts during normal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I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rivate HTT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G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tr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 uses parsing and pattern matching to map medical text into named graph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M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hes a named graph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rce to index its URI, and/or list all URIs sharing generalizations of its sub-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iggered a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G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elp validate (and process) all listed patients that match basic goal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a DCM to EM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12949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Rwrapper-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p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- - - - Intranet- - - -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QL-#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R-system-#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89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0384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MR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filter candidates by ASK-ing its lo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st each patient for specified Boolean conditions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s in a standard DCM (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ailed clinical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 must each be mapped to the local EMR data base mode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pping is defined by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- for SPARQL and/or conditionals in some scripting language such as Li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Rwrapp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ore artifac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redicates – useful to ANY c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em a best (simplest) initia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, they can exploit SW too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 and integrate them by using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ilarity to LSW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ncid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9:57:34Z</dcterms:created>
  <dc:creator>Dan</dc:creator>
  <dc:description/>
  <dc:language>en-US</dc:language>
  <cp:lastModifiedBy>Dan</cp:lastModifiedBy>
  <dcterms:modified xsi:type="dcterms:W3CDTF">2007-11-07T18:04:05Z</dcterms:modified>
  <cp:revision>28</cp:revision>
  <dc:subject/>
  <dc:title>COI Architecture? </dc:title>
</cp:coreProperties>
</file>